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1E1-86BD-4F0C-B54B-5A748BC9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597-0401-4C3F-AADA-769383E3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731-18C7-424E-9D8C-67A233DE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A84-30AA-4D96-BAF9-B78806A2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237-58C8-43EB-8700-09033D2A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D5B-8782-4EA9-BB6F-533F33D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C8D-F804-48BA-B346-1EFBA22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3CC-038A-4E5D-B8A6-948269A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CE4-BA35-49FC-BBEA-04F9ED3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84D-D7CD-47EA-9EC3-5127A74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8BE-1EDF-4124-A0CB-1D8D5EB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43A-64F6-4353-8EDF-0B633CC7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2719-1A54-41BC-90DD-E9B1C68D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: Aukse Sinickai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ita Taujanska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lack -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0000"/>
                </a:solidFill>
                <a:latin typeface="Arial"/>
              </a:rPr>
              <a:t>Red -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9900"/>
                </a:solidFill>
                <a:latin typeface="Arial"/>
              </a:rPr>
              <a:t>Yellow - f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s a federal parliamentary respublic in Europe. The country consists of 16 states while the capital and largest city is Berl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rmany live the most people in Europe (~81,8mln.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170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to 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Germany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Rüdesheim has many attr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wald monument, depicting the mythical figure of Germ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Rüdeshe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pride of Ger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1962000" cy="2324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2062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Museu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rlin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eum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Comple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Berlin Mus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land is very fa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Here are protec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19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plex is very important of Germany.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3733920"/>
            <a:ext cx="4191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Arial"/>
              </a:rPr>
              <a:t>I like this countr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Germany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are very friendly, natural, ordered, art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In Germany  almost 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are very old and very orde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0000"/>
                </a:solidFill>
                <a:latin typeface="Arial"/>
              </a:rPr>
              <a:t>Thank you for at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29718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5:27:23Z</dcterms:created>
  <dc:creator>RolandoPC</dc:creator>
  <dc:description/>
  <dc:language>en-US</dc:language>
  <cp:lastModifiedBy>Airidas</cp:lastModifiedBy>
  <dcterms:modified xsi:type="dcterms:W3CDTF">2011-10-18T16:34:22Z</dcterms:modified>
  <cp:revision>6</cp:revision>
  <dc:subject/>
  <dc:title>Germany</dc:title>
</cp:coreProperties>
</file>